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7.png" ContentType="image/png"/>
  <Override PartName="/ppt/media/image12.png" ContentType="image/png"/>
  <Override PartName="/ppt/media/image28.png" ContentType="image/png"/>
  <Override PartName="/ppt/media/image8.jpeg" ContentType="image/jpeg"/>
  <Override PartName="/ppt/media/image23.png" ContentType="image/png"/>
  <Override PartName="/ppt/media/image13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10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2.png" ContentType="image/pn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FA0-DE9E-4541-BBF7-59FC1D45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E59-7011-4F98-8F1A-7AC1A3A3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980-09F9-4AFC-8C2C-CE597B5D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7F1-11C4-419C-9056-C5EB9F00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1E8D-CDA3-45D9-AB86-FA7BC748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7E9-04AF-463A-9A6B-177EF705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645-7851-46D1-9597-7EC95986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43E-0B03-41B5-93EB-370FA438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6B3E-5C99-40BC-ACA2-B12E114F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149E-F3D1-4FAB-ABC4-CE3E4270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B26-4C48-4220-8F55-0370C3A4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F61-2014-4931-BE19-3D232262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0AC5-4740-4F8C-BFBE-5CC715671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aea1"/>
                </a:solidFill>
                <a:latin typeface="Arial"/>
              </a:rPr>
              <a:t>La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ea1"/>
                </a:solidFill>
                <a:latin typeface="Arial"/>
              </a:rPr>
              <a:t>Por Kaylee Kave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1384600">
            <a:off x="5790960" y="609480"/>
            <a:ext cx="2457360" cy="1857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288600">
            <a:off x="685440" y="304560"/>
            <a:ext cx="1781280" cy="2571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21463200">
            <a:off x="380880" y="4114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251400">
            <a:off x="5790960" y="4723920"/>
            <a:ext cx="292392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ff"/>
                </a:solidFill>
                <a:latin typeface="Antique Olive Roman"/>
              </a:rPr>
              <a:t>El Desay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95480" y="1523880"/>
            <a:ext cx="61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ntique Olive Roman"/>
              </a:rPr>
              <a:t>Para el desayuno me gusta comer los huevos revuel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500280" y="2357280"/>
            <a:ext cx="2143440" cy="2143440"/>
            <a:chOff x="3500280" y="2357280"/>
            <a:chExt cx="2143440" cy="2143440"/>
          </a:xfrm>
        </p:grpSpPr>
        <p:sp>
          <p:nvSpPr>
            <p:cNvPr id="50" name=""/>
            <p:cNvSpPr txBox="1"/>
            <p:nvPr/>
          </p:nvSpPr>
          <p:spPr>
            <a:xfrm>
              <a:off x="3500280" y="2357280"/>
              <a:ext cx="2143440" cy="214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21337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429000" y="2438280"/>
            <a:ext cx="2562120" cy="1791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400800" y="19810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371600" y="4876920"/>
            <a:ext cx="1473120" cy="1628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4191120" y="4952880"/>
            <a:ext cx="1752480" cy="154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47280" y="441972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Los huevos revuel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8280" y="43434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Las tort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98320" y="42670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Las fr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920" y="556272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El zum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70440" y="53341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La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7010280" y="5257800"/>
            <a:ext cx="1971720" cy="135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326280" y="487692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Los gof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Georgia"/>
              </a:rPr>
              <a:t>El Almuer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2743200" cy="2036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429000" y="1828800"/>
            <a:ext cx="2352600" cy="199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809880" y="4648320"/>
            <a:ext cx="1828800" cy="1933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66160" y="388620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Georgia"/>
              </a:rPr>
              <a:t>La ensa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248520" y="1600200"/>
            <a:ext cx="2286000" cy="1268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304920" y="4572000"/>
            <a:ext cx="1638360" cy="2114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781680" y="4114800"/>
            <a:ext cx="1724040" cy="1371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768480" y="39258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Bookman Old Style"/>
              </a:rPr>
              <a:t>El bocadillo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19800" y="312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ff66"/>
                </a:solidFill>
                <a:latin typeface="Bookman Old Style"/>
              </a:rPr>
              <a:t>La mantequill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ff66"/>
                </a:solidFill>
                <a:latin typeface="Bookman Old Style"/>
              </a:rPr>
              <a:t>maní y jalea sandw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90520" y="468792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Bookman Old Style"/>
              </a:rPr>
              <a:t>Las pata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Bookman Old Style"/>
              </a:rPr>
              <a:t>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86200" y="579132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Bookman Old Style"/>
              </a:rPr>
              <a:t>El zum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Bookman Old Style"/>
              </a:rPr>
              <a:t>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19000" y="548640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Bookman Old Style"/>
              </a:rPr>
              <a:t>La p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76720" y="192240"/>
            <a:ext cx="305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Bookman Old Style"/>
              </a:rPr>
              <a:t>Para el almuerzo me gu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Bookman Old Style"/>
              </a:rPr>
              <a:t>el bocadillo con lechug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Bookman Old Style"/>
              </a:rPr>
              <a:t>tomates y já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Verdana"/>
              </a:rPr>
              <a:t>La C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2333880" cy="196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19920" y="160020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57200" y="4038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6019920" y="4267080"/>
            <a:ext cx="250488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3962520" y="2057400"/>
            <a:ext cx="1344600" cy="2009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673240" y="609480"/>
            <a:ext cx="28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Verdana"/>
              </a:rPr>
              <a:t>Para la cena me gu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Verdana"/>
              </a:rPr>
              <a:t>la carne con papas fritas</a:t>
            </a:r>
            <a:r>
              <a:rPr b="0" lang="en-US" sz="1800" spc="-1" strike="noStrike">
                <a:solidFill>
                  <a:srgbClr val="bbe0e3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62880" y="10666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Verdana"/>
              </a:rPr>
              <a:t>El bist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63160" y="58230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Verdana"/>
              </a:rPr>
              <a:t>El t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09600" y="41464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Verdana"/>
              </a:rPr>
              <a:t>La limo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350532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Verdana"/>
              </a:rPr>
              <a:t>La hamburgesa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Verdana"/>
              </a:rPr>
              <a:t>papas 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36000" y="5562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Verdana"/>
              </a:rPr>
              <a:t>La pi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Verdana"/>
              </a:rPr>
              <a:t>Los Dersie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1800360" cy="1617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657600" y="152388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172200" y="2082960"/>
            <a:ext cx="2457360" cy="1650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66680" y="41911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553080" y="4191120"/>
            <a:ext cx="1838520" cy="1830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73960" y="346068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Verdana"/>
              </a:rPr>
              <a:t>La magde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53360" y="399420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Verdana"/>
              </a:rPr>
              <a:t>El he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73600" y="155592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Verdana"/>
              </a:rPr>
              <a:t>El brow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7680" y="513720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Verdana"/>
              </a:rPr>
              <a:t>La t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6920" y="50292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Verdana"/>
              </a:rPr>
              <a:t>La gal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22400" y="412920"/>
            <a:ext cx="258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Verdana"/>
              </a:rPr>
              <a:t>Para los dersierto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Verdana"/>
              </a:rPr>
              <a:t>gusta el he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12:04Z</dcterms:created>
  <dc:creator>kaveneykay</dc:creator>
  <dc:description/>
  <dc:language>en-US</dc:language>
  <cp:lastModifiedBy>kaveneykay</cp:lastModifiedBy>
  <dcterms:modified xsi:type="dcterms:W3CDTF">2012-04-05T17:15:40Z</dcterms:modified>
  <cp:revision>5</cp:revision>
  <dc:subject/>
  <dc:title>Las Comidas</dc:title>
</cp:coreProperties>
</file>